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CD7-F758-464B-A084-1E7343F7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463-C0F3-4A77-9E40-A5167928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31F-C9E2-43A4-B3F4-52831436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A4E-2EC6-4EC9-B466-C525D153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B8A-AE73-4D5C-A0BE-F44AB398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9F74-F1EE-44C7-B03C-5EC52973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B9AB-48A5-4598-BF3F-2E2209DB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D184-F471-4514-977C-6421AB9B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8C82-FD11-4088-B7AE-B95C6012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62FA-0C7E-4110-8C38-15108738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4859-D84B-437B-93FE-14C54392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CCD-7956-493D-B886-B97554E9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4191-F0E5-4893-9095-725CF9D1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5B6C-66DA-4372-A1F2-3833BD6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F88B-9A75-4E42-BAB0-AC758D0A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DE8B-D5FE-42B6-AEA8-62E887DF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D73E-98D1-4D18-83B1-59498BD6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B1A-8F94-4E4D-8DC8-A14BE322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894-75EA-45F5-A9AB-6BDA0B0D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AC1-1B6E-499E-816B-DBEA4C45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167-A4D5-43CE-8A08-8E299D6A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D5F-BB74-4C92-BB48-F295E04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F6E-1358-4EBD-8BEB-FC0BE2EB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141-904E-45BB-90C0-EFCA00ED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49C5-4583-46C8-8070-603DBF3CB662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F93-F1AF-42B6-9E52-852CC91995E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Life is Good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apter 3:  American Free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You paying on your own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odness NO!!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ut we all benef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o we all pay tax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would happen if you could CHOOSE whether or not you wanted to pay tax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i, welcome to Wal-Mar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y does Sam’s Club rock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specially on weeken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28584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me, home on the rang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eah, you are all free rid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ot willingly looking to p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ill get the benef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ould anyone choose to pay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happens instead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ver get pushed down stai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s it fair for someone else’s choices to impact you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scuss with a neighbo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me up with 3 examp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t least one positive &amp; one nega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ternaliliti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ir choice…your cost or benef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SU footbal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ther examp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reathe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rst 3 sections should be don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ife is good…but for all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re we all “equals”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egally, yes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conomically, no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e know who the rich people a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does it mean to be poor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poor is poor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ot having an Xbox 360 doesn’t make you poo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not meet basic nee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v’t there to help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ash transfers vs in-kind benefi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’s the differenc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ok deeper at our count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have it goo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ystem set up to benefit marke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ov’t still need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t 1 Test on Wednesday!!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y guides will be collect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ur system is gre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sed on hard work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ertainly not all equal, but should all have minimum necessar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nit 1 Test next clas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st of today to Create-A-Na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t’s all mine, mine, mine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ur system is a big MARKE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o controls the market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is our only job in this economy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does the gov’t d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e run the economy…what’s left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ut how do we tell them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ur economy, we run 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y set foundation &amp; help us when we are dow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 do we make our demands know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 WE VOT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WE BU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do we measure success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epends on who you ask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fference between “I” &amp; us al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o “I” matter to the gov’t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g picture using GDP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goals do they pursu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y push for technology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reathe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’m coming around to check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ke sure sections 1 &amp; 2 are complete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arm Up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mpare the role of the gov’t with that of the people in our econom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 does the gov’t measure the success of our economy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ut what exactly do they d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ever had more gov’t than now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y are they ther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do they really offer u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3527640" cy="370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330280" y="1882800"/>
            <a:ext cx="6813720" cy="470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100080"/>
            <a:ext cx="8001000" cy="6721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61080" y="678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18:18Z</dcterms:created>
  <dc:creator>Lewisburg Area School District</dc:creator>
  <dc:description/>
  <dc:language>en-US</dc:language>
  <cp:lastModifiedBy>Lewisburg Area School District</cp:lastModifiedBy>
  <dcterms:modified xsi:type="dcterms:W3CDTF">2010-02-09T14:15:08Z</dcterms:modified>
  <cp:revision>7</cp:revision>
  <dc:subject/>
  <dc:title>Life is Good</dc:title>
</cp:coreProperties>
</file>